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4B3D-BA86-4144-B29C-95F051D4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0505-75AF-4601-AFCF-CA5B7579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8F78-0A90-4B96-9ACF-BF88E5F0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D2BE-BF7A-4A32-A867-DADFC200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D67C-1D70-4579-82F5-3EBAA278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04F1-C598-45BC-AEEE-6A3AF89A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195-1DC4-4E7A-9E40-20672496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79E-1A2C-4342-976F-4F8DF9BA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F3D7-C890-41A9-8DBB-CE23944F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7BA-9973-4633-AA42-761F7515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9EB-F69A-4DCE-A652-1C1D1CD4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2D20-7736-44B0-84E8-35F08C34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9FCC-D233-4A86-9981-8DA6C8C71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discuss.itacumens.com/gallery/1544_31_10_08_11_37_20.jpg&amp;imgrefurl=http://discuss.itacumens.com/index.php%3Ftopic%3D2989.0&amp;usg=__vZHx3vp7tdbeTAYZSdoSGG_sLZI=&amp;h=1200&amp;w=1200&amp;sz=382&amp;hl=en&amp;start=4&amp;itbs=1&amp;tbnid=FIaDQQOvwNlVsM:&amp;tbnh=150&amp;tbnw=150&amp;prev=/images%3Fq%3Dsports%26hl%3Den%26safe%3Dactive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La clase de esp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Rey and Rafa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ld English Text MT"/>
              </a:rPr>
              <a:t>Los depor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Tiger woods juega go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Oscar de la hoya le gust el box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Michael jordon juega basquet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3352680"/>
            <a:ext cx="2606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El plan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Ti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S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M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Neptu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Junp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Ve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mercu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05320" y="1905120"/>
            <a:ext cx="3352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Las est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Invier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Primav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Ver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Old English Tex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ld English Text MT"/>
              </a:rPr>
              <a:t>Ot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81280" y="1422360"/>
            <a:ext cx="457200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8:37:35Z</dcterms:created>
  <dc:creator>WSFCS Workstation</dc:creator>
  <dc:description/>
  <dc:language>en-US</dc:language>
  <cp:lastModifiedBy>WSFCS Workstation</cp:lastModifiedBy>
  <dcterms:modified xsi:type="dcterms:W3CDTF">2010-04-27T18:57:06Z</dcterms:modified>
  <cp:revision>3</cp:revision>
  <dc:subject/>
  <dc:title>La clase de espanol</dc:title>
</cp:coreProperties>
</file>